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5.jpeg" ContentType="image/jpeg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8E11-6C3F-4FD0-82B2-0F9C21B41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24E7-0F89-44F4-8224-4AE9D3DDF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AC90-8C1E-489B-BA6E-E1A326DC3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4634-ECF6-4D66-A36A-BF16E0445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E6E1-89C9-43C1-9434-892A91499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5056-FE68-4977-BE83-3FE6A0880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AF5B-3782-4C64-9BF0-BDFC210D6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8D2B-332C-446E-B626-CC2362298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F59E-4F77-4821-B177-3E6961DEA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8497-7ECF-4872-A1BC-C3B74C0AA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D0F6-1079-48F3-93D0-1450E52BB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AF75-67CE-44DC-AF39-F0A0967EE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CFDD-FDD8-4D03-988A-3C9BBA8F9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EB60-2C92-472A-975C-709D572A3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just how we are always comparing ourselves with our peers, countries do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5621-FD73-41A0-99F4-F9E520357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D875-C305-42A6-A2CF-AD58E99E9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DE7F-7308-4E10-8C36-CD1A6F12E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43C6-62AB-42B7-8D6D-AF1118509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842E-70DE-48B6-8153-B1D8C6FCD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5608-1C09-4307-8468-63F3EE1C5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7CAB-09E3-41E6-8ADE-8024C336D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42E1-0324-485B-8379-73AE63B47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glencoe.com/" TargetMode="External"/><Relationship Id="rId5" Type="http://schemas.openxmlformats.org/officeDocument/2006/relationships/hyperlink" Target="file:///C:/../../../users/HS/Teachers/jhakim/My%20Documents/Stroudsburg%202009-2010/Intro%20To%20Business/ITB/Assessments/Ch_03_Assessment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glencoe.com/" TargetMode="External"/><Relationship Id="rId5" Type="http://schemas.openxmlformats.org/officeDocument/2006/relationships/hyperlink" Target="file:///C:/../../../users/HS/Teachers/jhakim/My%20Documents/Stroudsburg%202009-2010/Intro%20To%20Business/ITB/Assessments/Ch_03_Assessment.ppt" TargetMode="External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hyperlink" Target="file:///C:/../../../users/HS/Teachers/jhakim/My%20Documents/Stroudsburg%202009-2010/Intro%20To%20Business/ITB/Assessments/Ch_03_Assessment.ppt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5">
            <a:hlinkClick r:id="" action="ppaction://hlinkshowjump?jump=endshow"/>
          </p:cNvPr>
          <p:cNvSpPr/>
          <p:nvPr/>
        </p:nvSpPr>
        <p:spPr>
          <a:xfrm>
            <a:off x="343080" y="6303960"/>
            <a:ext cx="71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6">
            <a:hlinkClick r:id="rId4"/>
          </p:cNvPr>
          <p:cNvSpPr/>
          <p:nvPr/>
        </p:nvSpPr>
        <p:spPr>
          <a:xfrm>
            <a:off x="1582560" y="630396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7"/>
          <p:cNvSpPr/>
          <p:nvPr/>
        </p:nvSpPr>
        <p:spPr>
          <a:xfrm>
            <a:off x="2857680" y="630396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8">
            <a:hlinkClick r:id="rId5"/>
          </p:cNvPr>
          <p:cNvSpPr/>
          <p:nvPr/>
        </p:nvSpPr>
        <p:spPr>
          <a:xfrm>
            <a:off x="4448160" y="6303960"/>
            <a:ext cx="177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5">
            <a:hlinkClick r:id="" action="ppaction://hlinkshowjump?jump=endshow"/>
          </p:cNvPr>
          <p:cNvSpPr/>
          <p:nvPr/>
        </p:nvSpPr>
        <p:spPr>
          <a:xfrm>
            <a:off x="343080" y="6303960"/>
            <a:ext cx="71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6">
            <a:hlinkClick r:id="rId4"/>
          </p:cNvPr>
          <p:cNvSpPr/>
          <p:nvPr/>
        </p:nvSpPr>
        <p:spPr>
          <a:xfrm>
            <a:off x="1582560" y="630396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7"/>
          <p:cNvSpPr/>
          <p:nvPr/>
        </p:nvSpPr>
        <p:spPr>
          <a:xfrm>
            <a:off x="2857680" y="630396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8">
            <a:hlinkClick r:id="rId5"/>
          </p:cNvPr>
          <p:cNvSpPr/>
          <p:nvPr/>
        </p:nvSpPr>
        <p:spPr>
          <a:xfrm>
            <a:off x="4448160" y="6303960"/>
            <a:ext cx="177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5" descr="section 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white glow"/>
          <p:cNvPicPr/>
          <p:nvPr/>
        </p:nvPicPr>
        <p:blipFill>
          <a:blip r:embed="rId3"/>
          <a:stretch/>
        </p:blipFill>
        <p:spPr>
          <a:xfrm>
            <a:off x="469800" y="295272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white glow"/>
          <p:cNvPicPr/>
          <p:nvPr/>
        </p:nvPicPr>
        <p:blipFill>
          <a:blip r:embed="rId4"/>
          <a:stretch/>
        </p:blipFill>
        <p:spPr>
          <a:xfrm>
            <a:off x="3035160" y="191448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white glow"/>
          <p:cNvPicPr/>
          <p:nvPr/>
        </p:nvPicPr>
        <p:blipFill>
          <a:blip r:embed="rId5"/>
          <a:stretch/>
        </p:blipFill>
        <p:spPr>
          <a:xfrm>
            <a:off x="1633680" y="3516480"/>
            <a:ext cx="304560" cy="239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" descr="white glow"/>
          <p:cNvPicPr/>
          <p:nvPr/>
        </p:nvPicPr>
        <p:blipFill>
          <a:blip r:embed="rId6"/>
          <a:stretch/>
        </p:blipFill>
        <p:spPr>
          <a:xfrm>
            <a:off x="2808360" y="3103560"/>
            <a:ext cx="304560" cy="239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white glow"/>
          <p:cNvPicPr/>
          <p:nvPr/>
        </p:nvPicPr>
        <p:blipFill>
          <a:blip r:embed="rId7"/>
          <a:stretch/>
        </p:blipFill>
        <p:spPr>
          <a:xfrm>
            <a:off x="3773520" y="301932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3" descr="white glow"/>
          <p:cNvPicPr/>
          <p:nvPr/>
        </p:nvPicPr>
        <p:blipFill>
          <a:blip r:embed="rId8"/>
          <a:stretch/>
        </p:blipFill>
        <p:spPr>
          <a:xfrm>
            <a:off x="4017960" y="2951280"/>
            <a:ext cx="262080" cy="20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4" descr="white glow"/>
          <p:cNvPicPr/>
          <p:nvPr/>
        </p:nvPicPr>
        <p:blipFill>
          <a:blip r:embed="rId9"/>
          <a:stretch/>
        </p:blipFill>
        <p:spPr>
          <a:xfrm>
            <a:off x="4626000" y="294948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white glow"/>
          <p:cNvPicPr/>
          <p:nvPr/>
        </p:nvPicPr>
        <p:blipFill>
          <a:blip r:embed="rId10"/>
          <a:stretch/>
        </p:blipFill>
        <p:spPr>
          <a:xfrm>
            <a:off x="4836960" y="3016080"/>
            <a:ext cx="262080" cy="206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7"/>
          <p:cNvSpPr/>
          <p:nvPr/>
        </p:nvSpPr>
        <p:spPr>
          <a:xfrm>
            <a:off x="5431680" y="5144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5433840" y="954000"/>
            <a:ext cx="292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Economic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Activity in a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Chang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5430240" y="24336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5432400" y="2840040"/>
            <a:ext cx="266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U.S. Economic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6">
            <a:hlinkClick r:id="" action="ppaction://hlinkshowjump?jump=endshow"/>
          </p:cNvPr>
          <p:cNvSpPr/>
          <p:nvPr/>
        </p:nvSpPr>
        <p:spPr>
          <a:xfrm>
            <a:off x="6118200" y="393876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6118200" y="495792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8">
            <a:hlinkClick r:id="rId11"/>
          </p:cNvPr>
          <p:cNvSpPr/>
          <p:nvPr/>
        </p:nvSpPr>
        <p:spPr>
          <a:xfrm>
            <a:off x="6118200" y="547704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9"/>
          <p:cNvSpPr/>
          <p:nvPr/>
        </p:nvSpPr>
        <p:spPr>
          <a:xfrm>
            <a:off x="6118200" y="4448160"/>
            <a:ext cx="2278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5" descr="section 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white glow"/>
          <p:cNvPicPr/>
          <p:nvPr/>
        </p:nvPicPr>
        <p:blipFill>
          <a:blip r:embed="rId3"/>
          <a:stretch/>
        </p:blipFill>
        <p:spPr>
          <a:xfrm>
            <a:off x="469800" y="295272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white glow"/>
          <p:cNvPicPr/>
          <p:nvPr/>
        </p:nvPicPr>
        <p:blipFill>
          <a:blip r:embed="rId4"/>
          <a:stretch/>
        </p:blipFill>
        <p:spPr>
          <a:xfrm>
            <a:off x="3035160" y="191448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9" descr="white glow"/>
          <p:cNvPicPr/>
          <p:nvPr/>
        </p:nvPicPr>
        <p:blipFill>
          <a:blip r:embed="rId5"/>
          <a:stretch/>
        </p:blipFill>
        <p:spPr>
          <a:xfrm>
            <a:off x="1633680" y="3516480"/>
            <a:ext cx="304560" cy="239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0" descr="white glow"/>
          <p:cNvPicPr/>
          <p:nvPr/>
        </p:nvPicPr>
        <p:blipFill>
          <a:blip r:embed="rId6"/>
          <a:stretch/>
        </p:blipFill>
        <p:spPr>
          <a:xfrm>
            <a:off x="2808360" y="3103560"/>
            <a:ext cx="304560" cy="239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white glow"/>
          <p:cNvPicPr/>
          <p:nvPr/>
        </p:nvPicPr>
        <p:blipFill>
          <a:blip r:embed="rId7"/>
          <a:stretch/>
        </p:blipFill>
        <p:spPr>
          <a:xfrm>
            <a:off x="3773520" y="301932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3" descr="white glow"/>
          <p:cNvPicPr/>
          <p:nvPr/>
        </p:nvPicPr>
        <p:blipFill>
          <a:blip r:embed="rId8"/>
          <a:stretch/>
        </p:blipFill>
        <p:spPr>
          <a:xfrm>
            <a:off x="4017960" y="2951280"/>
            <a:ext cx="262080" cy="206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4" descr="white glow"/>
          <p:cNvPicPr/>
          <p:nvPr/>
        </p:nvPicPr>
        <p:blipFill>
          <a:blip r:embed="rId9"/>
          <a:stretch/>
        </p:blipFill>
        <p:spPr>
          <a:xfrm>
            <a:off x="4626000" y="294948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5" descr="white glow"/>
          <p:cNvPicPr/>
          <p:nvPr/>
        </p:nvPicPr>
        <p:blipFill>
          <a:blip r:embed="rId10"/>
          <a:stretch/>
        </p:blipFill>
        <p:spPr>
          <a:xfrm>
            <a:off x="4836960" y="3016080"/>
            <a:ext cx="262080" cy="2066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7"/>
          <p:cNvSpPr/>
          <p:nvPr/>
        </p:nvSpPr>
        <p:spPr>
          <a:xfrm>
            <a:off x="5431680" y="5144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5433840" y="954000"/>
            <a:ext cx="292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Economic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Activity in a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Chang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5430240" y="24336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5432400" y="2840040"/>
            <a:ext cx="266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U.S. Economic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6">
            <a:hlinkClick r:id="" action="ppaction://hlinkshowjump?jump=endshow"/>
          </p:cNvPr>
          <p:cNvSpPr/>
          <p:nvPr/>
        </p:nvSpPr>
        <p:spPr>
          <a:xfrm>
            <a:off x="6118200" y="393876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7"/>
          <p:cNvSpPr/>
          <p:nvPr/>
        </p:nvSpPr>
        <p:spPr>
          <a:xfrm>
            <a:off x="6118200" y="495792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8"/>
          <p:cNvSpPr/>
          <p:nvPr/>
        </p:nvSpPr>
        <p:spPr>
          <a:xfrm>
            <a:off x="6118200" y="547704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9"/>
          <p:cNvSpPr/>
          <p:nvPr/>
        </p:nvSpPr>
        <p:spPr>
          <a:xfrm>
            <a:off x="6118200" y="4448160"/>
            <a:ext cx="2278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093680" y="20970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The 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093680" y="2565360"/>
            <a:ext cx="707868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out the years, the U.S. economic system has changed. Each change affected what was produced and how people were employed. To gauge the health of our economic system, we use a variety of economic indic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What doesn’t count towards GDP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final goods are counted when you measure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Only a finished car is measured in GDP, everything that went into that ca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sn’t cou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x - the steel and fabr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ediate goods would be counted twice (Steel and fabr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GDP per capita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way to measure economic growth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DP per cap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D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÷ total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4932360" y="2575080"/>
            <a:ext cx="38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GDP per cap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per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GDP per capita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i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d by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DP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÷ total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USDebt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24000" y="2171880"/>
            <a:ext cx="8516880" cy="36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155+/- million people work in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force consists of all people over age 16 who are </a:t>
            </a: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ac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ing or are </a:t>
            </a: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see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mployment rate is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r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eople in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bor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o aren’t wor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Employmen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aphicFrame>
        <p:nvGraphicFramePr>
          <p:cNvPr id="258" name="Object 7"/>
          <p:cNvGraphicFramePr/>
          <p:nvPr/>
        </p:nvGraphicFramePr>
        <p:xfrm>
          <a:off x="1523880" y="1390680"/>
          <a:ext cx="6096240" cy="407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390680"/>
                    <a:ext cx="60962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Box 4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Labor force – I don’t get i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pSp>
        <p:nvGrpSpPr>
          <p:cNvPr id="262" name="Group 8"/>
          <p:cNvGrpSpPr/>
          <p:nvPr/>
        </p:nvGrpSpPr>
        <p:grpSpPr>
          <a:xfrm>
            <a:off x="1371600" y="2495520"/>
            <a:ext cx="4209840" cy="3180960"/>
            <a:chOff x="1371600" y="2495520"/>
            <a:chExt cx="4209840" cy="3180960"/>
          </a:xfrm>
        </p:grpSpPr>
        <p:sp>
          <p:nvSpPr>
            <p:cNvPr id="263" name="Oval 4"/>
            <p:cNvSpPr/>
            <p:nvPr/>
          </p:nvSpPr>
          <p:spPr>
            <a:xfrm>
              <a:off x="1371600" y="2495520"/>
              <a:ext cx="4209840" cy="31809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"/>
            <p:cNvSpPr/>
            <p:nvPr/>
          </p:nvSpPr>
          <p:spPr>
            <a:xfrm>
              <a:off x="3524040" y="2919600"/>
              <a:ext cx="2038320" cy="235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6"/>
            <p:cNvSpPr/>
            <p:nvPr/>
          </p:nvSpPr>
          <p:spPr>
            <a:xfrm>
              <a:off x="1657080" y="37681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bor For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7"/>
          <p:cNvSpPr/>
          <p:nvPr/>
        </p:nvSpPr>
        <p:spPr>
          <a:xfrm>
            <a:off x="3467160" y="421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5619600" y="2952720"/>
            <a:ext cx="2438640" cy="2552760"/>
          </a:xfrm>
          <a:prstGeom prst="ellipse">
            <a:avLst/>
          </a:prstGeom>
          <a:noFill/>
          <a:ln w="9360">
            <a:solidFill>
              <a:srgbClr val="2340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6229440" y="3314880"/>
            <a:ext cx="144756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Labor f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1"/>
          <p:cNvSpPr/>
          <p:nvPr/>
        </p:nvSpPr>
        <p:spPr>
          <a:xfrm flipH="1">
            <a:off x="6819480" y="2362320"/>
            <a:ext cx="800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6362640" y="1295280"/>
            <a:ext cx="24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, retired people, people who can’t work or don’t wan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1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Employmen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are “unemployed”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looking f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ng/able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can’t find a jo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Unemploymen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tion of people in the labor force who are not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Employmen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3520" y="1854360"/>
            <a:ext cx="851688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employment rate measures the number of people who are </a:t>
            </a: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wil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ork but cannot find work during a given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, not everyone is </a:t>
            </a: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able/wil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, retired people, and others who cannot or do not wish to work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t of the labor forc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ypes of Unemployment (Contd)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 – new technology replaces workers, requiring new skills or companies merge and eliminate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ical – the entire economy slow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finding our current unemployment r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Productivit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74480" y="177804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0’s average worker put in about 60 hours of work in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work around 40 hours a week but we produce WAY more goods and services….how i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worker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Productivit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ital source of economic growth is an increase in output per wor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4932360" y="2575080"/>
            <a:ext cx="3824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duction output in relation to a unit of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w many cans of chicken noodle soup can be produced with the number of staff working at the tim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1097280" y="20970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093680" y="2565360"/>
            <a:ext cx="692172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ing U.S.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ing Economic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Other factors of Economic Growth</a:t>
            </a:r>
            <a:br>
              <a:rPr sz="3200"/>
            </a:b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Personal Incom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income funds provide the foundation for buying needed goods and servi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5"/>
          <p:cNvSpPr/>
          <p:nvPr/>
        </p:nvSpPr>
        <p:spPr>
          <a:xfrm>
            <a:off x="4932360" y="2575080"/>
            <a:ext cx="38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Personal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aries and wages as well as investment income and gov’t payments to individua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Retail Sal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809720"/>
            <a:ext cx="418608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monthly basis, the U.S. Dept of Commerce measures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retail sa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nsume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retail sales usually points towards economic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Retail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of durable and nondurable goods bought by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Retail Sal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tems measure for estimating retail sales include: automobiles, building materials, furniture, gasoline, clothing as well as purchases from restaurants, dept. stores, and food and drug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1082160"/>
            <a:ext cx="8594640" cy="7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Retail Sal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06280" y="1625400"/>
            <a:ext cx="8669520" cy="39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lnSpc>
                <a:spcPct val="105000"/>
              </a:lnSpc>
              <a:spcBef>
                <a:spcPts val="1012"/>
              </a:spcBef>
              <a:buSzPct val="121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urable and nondurable?  What does that mea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lnSpc>
                <a:spcPct val="105000"/>
              </a:lnSpc>
              <a:spcBef>
                <a:spcPts val="1012"/>
              </a:spcBef>
              <a:buSzPct val="121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urable 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5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consumer good that typically lasts longer than three yea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5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rniture, jewelry, cars, applianc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lnSpc>
                <a:spcPct val="105000"/>
              </a:lnSpc>
              <a:spcBef>
                <a:spcPts val="1012"/>
              </a:spcBef>
              <a:buSzPct val="121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ndurable 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5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consumer good that typically lasts less than three year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5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od, cosmetics, medicines, clothes, shoes, small electron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Partner Activit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aper or electronically, list all the consumer goods and services you used from yesterday morning until you went to bed (list durable goods together and nondurable goods toge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them up when f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Group Activity (35 pts)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311" name="Rectangle 3" descr=""/>
          <p:cNvPicPr/>
          <p:nvPr/>
        </p:nvPicPr>
        <p:blipFill>
          <a:blip r:embed="rId1"/>
          <a:stretch/>
        </p:blipFill>
        <p:spPr>
          <a:xfrm>
            <a:off x="244440" y="3157560"/>
            <a:ext cx="8899560" cy="31510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636480" y="1936800"/>
            <a:ext cx="816480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esentation software, create a presentation about the countries given to you and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alculating % Chang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w # – Old #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 – 31,30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Change = 5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3 – 47,9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5"/>
          <p:cNvSpPr/>
          <p:nvPr/>
        </p:nvSpPr>
        <p:spPr>
          <a:xfrm flipV="1">
            <a:off x="396720" y="3104640"/>
            <a:ext cx="290700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rc 8"/>
          <p:cNvSpPr/>
          <p:nvPr/>
        </p:nvSpPr>
        <p:spPr>
          <a:xfrm>
            <a:off x="3038400" y="2009880"/>
            <a:ext cx="857160" cy="2228760"/>
          </a:xfrm>
          <a:custGeom>
            <a:avLst/>
            <a:gdLst/>
            <a:ahLst/>
            <a:rect l="l" t="t" r="r" b="b"/>
            <a:pathLst>
              <a:path stroke="0" w="857250" h="2228850">
                <a:moveTo>
                  <a:pt x="428625" y="0"/>
                </a:moveTo>
                <a:cubicBezTo>
                  <a:pt x="631446" y="0"/>
                  <a:pt x="806504" y="369611"/>
                  <a:pt x="848127" y="885722"/>
                </a:cubicBezTo>
                <a:cubicBezTo>
                  <a:pt x="861368" y="1049908"/>
                  <a:pt x="860182" y="1219748"/>
                  <a:pt x="844657" y="1382576"/>
                </a:cubicBezTo>
                <a:cubicBezTo>
                  <a:pt x="789864" y="1957243"/>
                  <a:pt x="571805" y="2320201"/>
                  <a:pt x="348140" y="2209027"/>
                </a:cubicBezTo>
                <a:lnTo>
                  <a:pt x="428625" y="1114425"/>
                </a:lnTo>
                <a:lnTo>
                  <a:pt x="428625" y="0"/>
                </a:lnTo>
                <a:close/>
              </a:path>
              <a:path fill="none" w="857250" h="2228850">
                <a:moveTo>
                  <a:pt x="428625" y="0"/>
                </a:moveTo>
                <a:cubicBezTo>
                  <a:pt x="631446" y="0"/>
                  <a:pt x="806504" y="369611"/>
                  <a:pt x="848127" y="885722"/>
                </a:cubicBezTo>
                <a:cubicBezTo>
                  <a:pt x="861368" y="1049908"/>
                  <a:pt x="860182" y="1219748"/>
                  <a:pt x="844657" y="1382576"/>
                </a:cubicBezTo>
                <a:cubicBezTo>
                  <a:pt x="789864" y="1957243"/>
                  <a:pt x="571805" y="2320201"/>
                  <a:pt x="348140" y="22090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rc 10"/>
          <p:cNvSpPr/>
          <p:nvPr/>
        </p:nvSpPr>
        <p:spPr>
          <a:xfrm rot="10800000">
            <a:off x="207720" y="2009520"/>
            <a:ext cx="857160" cy="2228760"/>
          </a:xfrm>
          <a:custGeom>
            <a:avLst/>
            <a:gdLst/>
            <a:ahLst/>
            <a:rect l="l" t="t" r="r" b="b"/>
            <a:pathLst>
              <a:path stroke="0" w="857250" h="2228850">
                <a:moveTo>
                  <a:pt x="428625" y="0"/>
                </a:moveTo>
                <a:cubicBezTo>
                  <a:pt x="631446" y="0"/>
                  <a:pt x="806504" y="369611"/>
                  <a:pt x="848127" y="885722"/>
                </a:cubicBezTo>
                <a:cubicBezTo>
                  <a:pt x="861368" y="1049908"/>
                  <a:pt x="860182" y="1219748"/>
                  <a:pt x="844657" y="1382576"/>
                </a:cubicBezTo>
                <a:cubicBezTo>
                  <a:pt x="789864" y="1957243"/>
                  <a:pt x="571805" y="2320201"/>
                  <a:pt x="348140" y="2209027"/>
                </a:cubicBezTo>
                <a:lnTo>
                  <a:pt x="428625" y="1114425"/>
                </a:lnTo>
                <a:lnTo>
                  <a:pt x="428625" y="0"/>
                </a:lnTo>
                <a:close/>
              </a:path>
              <a:path fill="none" w="857250" h="2228850">
                <a:moveTo>
                  <a:pt x="428625" y="0"/>
                </a:moveTo>
                <a:cubicBezTo>
                  <a:pt x="631446" y="0"/>
                  <a:pt x="806504" y="369611"/>
                  <a:pt x="848127" y="885722"/>
                </a:cubicBezTo>
                <a:cubicBezTo>
                  <a:pt x="861368" y="1049908"/>
                  <a:pt x="860182" y="1219748"/>
                  <a:pt x="844657" y="1382576"/>
                </a:cubicBezTo>
                <a:cubicBezTo>
                  <a:pt x="789864" y="1957243"/>
                  <a:pt x="571805" y="2320201"/>
                  <a:pt x="348140" y="22090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ethics in business copy"/>
          <p:cNvPicPr/>
          <p:nvPr/>
        </p:nvPicPr>
        <p:blipFill>
          <a:blip r:embed="rId1"/>
          <a:stretch/>
        </p:blipFill>
        <p:spPr>
          <a:xfrm>
            <a:off x="493560" y="1273320"/>
            <a:ext cx="7958160" cy="48654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5"/>
          <p:cNvSpPr/>
          <p:nvPr/>
        </p:nvSpPr>
        <p:spPr>
          <a:xfrm>
            <a:off x="1039680" y="2125800"/>
            <a:ext cx="71820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a purchasing agent for a large furniture manufacturer. You have received several bids from lumber companies for a supply of teak, a very dense and decay-resistant type of wood. The lowest bid comes from a lumber company that has been known to abuse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039680" y="4602240"/>
            <a:ext cx="7182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Decision Ma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ow does the lumber company’s reputation affect your decision? Explain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ethics in business copy"/>
          <p:cNvPicPr/>
          <p:nvPr/>
        </p:nvPicPr>
        <p:blipFill>
          <a:blip r:embed="rId1"/>
          <a:stretch/>
        </p:blipFill>
        <p:spPr>
          <a:xfrm>
            <a:off x="493560" y="1273320"/>
            <a:ext cx="7958160" cy="48654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1039680" y="2440080"/>
            <a:ext cx="718200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udents might suggest that all aspects of the company’s reputation should be considered before making a decision to buy from the compan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section review"/>
          <p:cNvPicPr/>
          <p:nvPr/>
        </p:nvPicPr>
        <p:blipFill>
          <a:blip r:embed="rId1"/>
          <a:stretch/>
        </p:blipFill>
        <p:spPr>
          <a:xfrm>
            <a:off x="420840" y="1282680"/>
            <a:ext cx="8302320" cy="4913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"/>
          <p:cNvSpPr/>
          <p:nvPr/>
        </p:nvSpPr>
        <p:spPr>
          <a:xfrm>
            <a:off x="1003320" y="23670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1.  What do economic indicators meas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1003320" y="306540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Economic indicators measure the economic health of the nation.</a:t>
            </a: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Who has fat stacks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thinks they have the most money on them right 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the tallest in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the highest GP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6" descr="section review"/>
          <p:cNvPicPr/>
          <p:nvPr/>
        </p:nvPicPr>
        <p:blipFill>
          <a:blip r:embed="rId1"/>
          <a:stretch/>
        </p:blipFill>
        <p:spPr>
          <a:xfrm>
            <a:off x="420840" y="1282680"/>
            <a:ext cx="8302320" cy="491328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3"/>
          <p:cNvSpPr/>
          <p:nvPr/>
        </p:nvSpPr>
        <p:spPr>
          <a:xfrm>
            <a:off x="1003320" y="23670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2.  How do we find GDP per capi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003320" y="30654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GDP </a:t>
            </a:r>
            <a:r>
              <a:rPr b="1" lang="en-US" sz="2400" spc="-1" strike="noStrike">
                <a:solidFill>
                  <a:srgbClr val="b40000"/>
                </a:solidFill>
                <a:latin typeface="Times New Roman"/>
                <a:ea typeface="Times New Roman"/>
              </a:rPr>
              <a:t>÷</a:t>
            </a: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 by total population of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6" descr="section review"/>
          <p:cNvPicPr/>
          <p:nvPr/>
        </p:nvPicPr>
        <p:blipFill>
          <a:blip r:embed="rId1"/>
          <a:stretch/>
        </p:blipFill>
        <p:spPr>
          <a:xfrm>
            <a:off x="420840" y="1282680"/>
            <a:ext cx="8302320" cy="49132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3"/>
          <p:cNvSpPr/>
          <p:nvPr/>
        </p:nvSpPr>
        <p:spPr>
          <a:xfrm>
            <a:off x="1003320" y="236700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3.  What are the main sources of personal in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1060560" y="342756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Wages, salaries, investment income, and gov’t paym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Measuring Economic Activit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indicators measure things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a country is produ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ther the economy is gr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economy compares to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Gross Domestic Produc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229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4932360" y="2575080"/>
            <a:ext cx="38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gross domestic product (G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dollar value of all final goods and services produced in a country during on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43052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</a:t>
            </a:r>
            <a:r>
              <a:rPr b="1" lang="en-US" sz="2800" spc="-1" strike="noStrike">
                <a:solidFill>
                  <a:srgbClr val="23408f"/>
                </a:solidFill>
                <a:latin typeface="Arial"/>
              </a:rPr>
              <a:t>gro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3408f"/>
                </a:solidFill>
                <a:latin typeface="Arial"/>
              </a:rPr>
              <a:t>domestic product (GD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volves computing the sum of goods and services sold to businesses, consumers, the government, and other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mponents of GDP – what goes into it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 spend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ood, clothing, housing and other sp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spen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buildings, equipment, and inventory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vernment spend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ay employees and to buy supplies and other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mponents of GDP (cont’d)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exports of a country less (MINUS) the imports into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Exports – Imports = the money you can count towards your G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USDebt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228600" y="1525680"/>
          <a:ext cx="8915400" cy="39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5680"/>
                    <a:ext cx="891540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TextBox 2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What counts towards GDP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– You are out mowing your la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doesn’t include value of work you do for yourself.  BUT included in GDP is everything you bought to cut your law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2:01:37Z</dcterms:created>
  <dc:creator>Nigel Wright</dc:creator>
  <dc:description/>
  <dc:language>en-US</dc:language>
  <cp:lastModifiedBy>bstromes</cp:lastModifiedBy>
  <dcterms:modified xsi:type="dcterms:W3CDTF">2014-10-15T00:20:55Z</dcterms:modified>
  <cp:revision>110</cp:revision>
  <dc:subject/>
  <dc:title>Slide 1</dc:title>
</cp:coreProperties>
</file>